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EB7-5B3B-4210-B636-6505D524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9FCA-2120-4625-9A5D-DB569EBA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7E78-1D79-48AD-9585-86708438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261-F91A-4225-8580-F51990D7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69D-FF97-4FB8-88CB-CFAE33F7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656-23C9-4C8E-ACDF-97FF92F7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532-BB72-4F78-9AD9-876DF8DA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540-F748-4B2C-9712-36E72E35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95B-A43E-486C-9002-A16D3FF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A2B-BEA6-4578-9AFC-15245824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1DD-3487-421C-8026-619EB313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112-7879-4C75-90A3-36EFE1A4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98DB-0F9B-42C8-96C7-5BD06FD1693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8EC-358A-4664-BF3C-9C714C186B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elephon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s unable to reach their destination as result of excess demand for system capa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ffic Observation and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traffic measurement done to detect and resolve potential sources of conges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measurement studies determine customer calling patterns; basis for discounted toll 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x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direction on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 duplex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directions but only one can talk at a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parties can talk at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- and receive-data clocks locked toge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ocks on transmitter and receiver not locked toge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col major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am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ow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ible for integration of control characters within data stream and classified according to their framing techniqu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 of pulses sent over communications lin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first be coded or prepared for transmis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minates need for data states to be represented in terms of absolute voltage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ing synchronization between transmitter and receiver cloc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 a form of erro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RZ group of codes: encoding binar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1: NRZ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RZ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tab09_01.jpg"/>
          <p:cNvPicPr/>
          <p:nvPr/>
        </p:nvPicPr>
        <p:blipFill>
          <a:blip r:embed="rId1"/>
          <a:stretch/>
        </p:blipFill>
        <p:spPr>
          <a:xfrm>
            <a:off x="1184400" y="228600"/>
            <a:ext cx="67752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Sys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 means “far” and phone means “sound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wide grid of connections; point-to-point communications between many subscri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Z codes: return-to-zero line-coding form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2: RZ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Z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tab09_02.jpg"/>
          <p:cNvPicPr/>
          <p:nvPr/>
        </p:nvPicPr>
        <p:blipFill>
          <a:blip r:embed="rId1"/>
          <a:stretch/>
        </p:blipFill>
        <p:spPr>
          <a:xfrm>
            <a:off x="228600" y="482760"/>
            <a:ext cx="86868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phase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in optical systems, satellite telemetry links, magnetic recording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3: Phase-Encoded and Delay-Modulation (Miller)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hase-Encoded and Delay-Modulation (Miller)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tab09_03.jpg"/>
          <p:cNvPicPr/>
          <p:nvPr/>
        </p:nvPicPr>
        <p:blipFill>
          <a:blip r:embed="rId1"/>
          <a:stretch/>
        </p:blipFill>
        <p:spPr>
          <a:xfrm>
            <a:off x="1371600" y="228600"/>
            <a:ext cx="6446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evel binary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two levels representing the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4: Multilevel Binary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ultilevel Binary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3" descr="tab09_04.jpg"/>
          <p:cNvPicPr/>
          <p:nvPr/>
        </p:nvPicPr>
        <p:blipFill>
          <a:blip r:embed="rId1"/>
          <a:stretch/>
        </p:blipFill>
        <p:spPr>
          <a:xfrm>
            <a:off x="228600" y="1644480"/>
            <a:ext cx="86868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between logic states results in fast change in rise or fall times of transmitted pul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 scheme chosen determined by available bandwidth and need for transmitter and receiver to maintain synchro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formation signal accesses entire channel bandwidth for only small part of available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-division multiple access (TD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port data from multiple sources over same serial data chann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-carrier TD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M data from channel 1 transmitted first, then data from channel 2, and so on in sequence before process repea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Sys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PBX and central office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ching one telephone line to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SCHT function for their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ry residing on line cards hand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1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ty for 24 individual, 64-kbps, time-division-multiplexed telephone cal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ctional T1 (FT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portion of T1 bandwidth being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nt of pres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where communication carrier brings in service to a fac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nel service unit/data service unit (CSU/DSU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7: The CSU/DSU Alar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7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CSU/DSU Alarm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tab09_07.jpg"/>
          <p:cNvPicPr/>
          <p:nvPr/>
        </p:nvPicPr>
        <p:blipFill>
          <a:blip r:embed="rId1"/>
          <a:stretch/>
        </p:blipFill>
        <p:spPr>
          <a:xfrm>
            <a:off x="228600" y="2157480"/>
            <a:ext cx="86868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nchronization of receiving equip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8: The Function of the 24 ESF Framing B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29714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Function of the 24 ESF Framing Bi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9" descr="tab09_08.jpg"/>
          <p:cNvPicPr/>
          <p:nvPr/>
        </p:nvPicPr>
        <p:blipFill>
          <a:blip r:embed="rId1"/>
          <a:stretch/>
        </p:blipFill>
        <p:spPr>
          <a:xfrm>
            <a:off x="228600" y="1843200"/>
            <a:ext cx="868680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back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s transmitted data to be routed back to originating lo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1 line 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 and B8Z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capacity and bit rate are not unlimi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cket-Switch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ame Rel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 switching network designed to carry data traffic over public data network (PD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hannels will not introduce bit errors or, at worst-case, minimal bit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ted information rate (CI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ted burst information rate (CBI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cket-Switch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ynchronous Transfer Mode (AT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relay technique designed for voice, data, video traf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s or cells processed at switching centers and directed to best network for delive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tual path connection (VP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tual channel connection (VC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9: The Five ATM Service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Five ATM Service Class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tab09_09.jpg"/>
          <p:cNvPicPr/>
          <p:nvPr/>
        </p:nvPicPr>
        <p:blipFill>
          <a:blip r:embed="rId1"/>
          <a:stretch/>
        </p:blipFill>
        <p:spPr>
          <a:xfrm>
            <a:off x="228600" y="1884240"/>
            <a:ext cx="868680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Quality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cable infrastructure in U.S. 50 years o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gnaling System 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7 uses physical out-of-band signal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DN and SS7 follow guidelines provided by OSI mod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ocol analyz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rt through messages to identify a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communications troubleshoo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gnize digital pulse distortion and identify what causes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good pulse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frequency distor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effects of incorrect impedance on square wa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noise on digit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igital Wav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-wave signal is digit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Noise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’s amplitude changed by noise adding to it or subtracting from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Impedance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 wave pulse can show effects of impedance mismatch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Frequency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pulses will not be distorted when passing through amplifier with sufficient bandwidth or transmission line with sufficient bandwid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ye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d by “overlaying” on oscilloscope all digital bit signals recei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loop for telephone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-wire twisted-pair c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dependent on wire diameter, conductor spacing, dielectric constant of ins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stance of copper causes signal attenu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-frequency attenuation greatly curtailed by adding inductance in series with the c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ce in gain or loss at frequency with respect to reference tone 1004 Hz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traveling down transmission line experiences some delay from input to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Traff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sifies between 9:00 and 11:00 in morning and 2:00 and 4:00 in afterno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Unit of Traff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 or path that carries its usage for one traffic call at a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capacity of group of tru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ture or distribution of call durations or holding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23:43Z</dcterms:modified>
  <cp:revision>5</cp:revision>
  <dc:subject/>
  <dc:title>Slide 1</dc:title>
</cp:coreProperties>
</file>